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FCA-C102-4B13-91B8-573ED4C6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36B-E2BB-4F15-B1BB-9BB9516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B0F-363B-4269-8717-06CD7489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AB8-0C48-4920-9705-074449C8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732-2D80-45E8-9586-2C94E8F0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D70-F169-4231-BADE-807E3626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4CF-BCE5-4ADB-A52E-286E1BE0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A81-DBE3-4464-B0CC-3935EB5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364-5BF5-42DE-BAF7-CED2A20A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C06-D1A7-4B3A-B0CE-E98FB17C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ED2-C340-4860-BA67-67DC385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E87-71A2-43B9-B599-56861F9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4920"/>
            <a:ext cx="32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B 10-15-04 ARL-CNI E-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7EF-5EE6-4AEF-B592-826977C84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 and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jory S. Blumenth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 Provost, Aca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town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 by the elevators near restrooms: typewrite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berinfra and cool charts with animation (not mine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of a concept: NSF and historic tension between computer science and computational science, from HPCCI (mid-’80s roots) to fully Internet-centric (mid-’90s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3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tional Collabora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ort process—disciplinary identity,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B’s focus on cyberinfrastructure given software, IT enablement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engage CS—NVO: “computer scientists love us”—interesting problems (n.b., state of networking R)…new role of applied C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er social challenge: how nurture cyberinfra?  (bottom v. top of un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ant: evangelizing common cause of science, social science, humanities—and C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context: how to assess activity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ort ≠ results; effort and floor-ra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-US NREN study: US and government-funded basic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 attention to the info/knowledge soc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land security/critical infrastru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. data set and data mining mission creep—privacy issues in some instances (econ/social obvious; links to science? Cf. GIS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jorgovski: if WWW is Wild West and we need something more, does this link cyberinfrastructure to other governance discussions?  (sigh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communities’ needs to trust data integrity, persistence, authen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 new mechanisms (who will choose and shape?  CS, computational scienc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ng expectations: students + scho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econ (Courant)—public good chall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ay, who pays—haves and have-nots? (G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e of fiber v. bandwidth (Ly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. CANARIE, condominium fiber for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 systems of embedded computing devices—sensornets, ma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jorgovski: most data will never be seen by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S and process in situ; cf. Djorgovski: Jim Gray—bring the computation to the dat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national courses (SI IT &amp; Global’n w/S A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global university? (Atk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the money?  New pub-priv partnershi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kins’ list of government agencies and fou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ant’s speculation about academic-copyright industries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Scholarly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ities response: Consider the art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use and support, but also true hybridization (IT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sell on arts than CS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 development/use/sh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ation (n.b., appeal of open source), lims of easy-to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has voice in standards-setting? (problem &gt; arts &amp; hu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C: knowledge communities amid individ’m (Cf. Cour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take for anyone anywhere to do 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question to Djorgovski—A: if you know what you’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process may provide another take on time-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sts’ frustration about having to learn tools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ich School of Info (Atkins)—pioneer in Internet economics/policy as well as early collaborator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overall system: econ/soc sci analysis needed,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study what we’re here to talk about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2:46:39Z</dcterms:created>
  <dc:creator>Marjory Blumenthal</dc:creator>
  <dc:description/>
  <dc:language>en-US</dc:language>
  <cp:lastModifiedBy>Dru Mogge</cp:lastModifiedBy>
  <dcterms:modified xsi:type="dcterms:W3CDTF">2004-10-18T18:13:24Z</dcterms:modified>
  <cp:revision>10</cp:revision>
  <dc:subject>ARL-CNI RXNS</dc:subject>
  <dc:title>PowerPoint Presentation  -  Reflections and Responses</dc:title>
</cp:coreProperties>
</file>