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1D8-46D6-4A4F-9058-84C76C00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AAE-B75F-422D-95A1-70A31F30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4B8-E97C-44DA-BD89-E0E22C6E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A85-378F-4DAB-873C-A4A2056A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6A38-10EA-4E29-8756-2D7E14BE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3F7E-F25A-4C3C-961D-844DFAFE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BCC1-0CC8-42DD-945B-128AF2AE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7F39-B70B-4F64-8A78-C258A99F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7E4D-44D7-436D-8459-C8020018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4203-403E-4ED1-82A5-4DC1E11D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72F5-6227-4CED-A9AF-87EBE73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7AD-B97B-4E93-97DF-A0754940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02B5-C68B-4D36-BD8E-5835C58D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62D2-1DE5-41C9-A35B-9859D6EE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0E29-B634-4621-B5B6-309517AC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0B0D-6FAF-45B7-B121-0FBD97C9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8400-DD06-4E05-ADE4-EBF77BBC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A77-D095-4BB3-B115-017578FB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7C5-A02D-491F-BBCB-CD1E0D4C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488-0A1D-48CD-BAA0-5B543FCA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FAB-A976-44F7-9BB5-5A1F7CD7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CFE-4494-4C4F-BE71-C30B26F1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E04-9EA1-4CC6-879B-4B651DBE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285-6C6F-435A-80C0-8284E62D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738C-A892-4298-ADDE-F9256D0BD39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4B75-C763-4608-94CB-4CA1D7314E1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Palatino Linotype"/>
              </a:rPr>
              <a:t>E-Research and Supporting Cyberinfrastructure: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Palatino Linotype"/>
              </a:rPr>
              <a:t>Next Steps Within Our Institu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Palatino Linotype"/>
              </a:rPr>
              <a:t>ARL/CNI For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Palatino Linotype"/>
              </a:rPr>
              <a:t>15 October 200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Palatino Linotype"/>
              </a:rPr>
              <a:t>Brian E. C. Schottlaender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Palatino Linotype"/>
              </a:rPr>
              <a:t>University Librarian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Palatino Linotype"/>
              </a:rPr>
              <a:t>University of California, San Diego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Chang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hange in scholarship is big, deep, complex, long-term, technical, social, cultur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hange will fundamentally reconfigure core activities of the acade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Shift from acquiring to mana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Shift from generating/pushing to receiving/pu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Collabor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THOMAS: Before we can fully collaborate externally, we need to learn to do so interna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ATKINS: must find better ways of collaborating on development of middleware and common-operated digital librar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URANT: the value everywhere of cooperation instead of compet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Synerg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Palatino Linotype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Palatino Linotype"/>
              </a:rPr>
              <a:t>Alignment of mutual self-interest” between libraries/museums/archives – users –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Palatino Linotype"/>
              </a:rPr>
              <a:t>computing commun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Palatino Linotype"/>
              </a:rPr>
              <a:t>Learning, Engagement, Resear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Issu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Barrier-Free Acc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ntent integr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ntent cu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ntent persistence/archiv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ntent fede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Domain expert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st/Fund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Expectations (high and low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Palatino Linotype"/>
              </a:rPr>
              <a:t>ARL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Palatino Linotype"/>
              </a:rPr>
              <a:t>Strategic Directions (2005–2009):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Palatino Linotype"/>
              </a:rPr>
              <a:t>Summary</a:t>
            </a:r>
            <a:br>
              <a:rPr sz="4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Palatino Linotype"/>
              </a:rPr>
              <a:t>Strategic Direction I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Palatino Linotype"/>
              </a:rPr>
              <a:t>ARL will be a leader in the development of effective, extensible, sustainable, and economically viable systems of scholarly communicatio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Palatino Linotype"/>
              </a:rPr>
              <a:t>Strategic Direction II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Palatino Linotype"/>
              </a:rPr>
              <a:t>ARL will influence information and other public policies, both nationally and internationally, that govern the way information is managed and made availabl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Palatino Linotype"/>
              </a:rPr>
              <a:t>Strategic Direction III: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Palatino Linotype"/>
              </a:rPr>
              <a:t>ARL will promote and facilitate new and expanding roles for ARL libraries in the transformations affecting research and undergraduate and graduate education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Strategic Directions (2005–2009):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Palatino Linotype"/>
              </a:rPr>
              <a:t>Interdependent :: Transformative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0" t="0" r="0" b="31514"/>
          <a:stretch/>
        </p:blipFill>
        <p:spPr>
          <a:xfrm>
            <a:off x="2209680" y="1752480"/>
            <a:ext cx="51818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16000" y="1187280"/>
            <a:ext cx="6670800" cy="55278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solidFill>
            <a:srgbClr val="ffff00">
              <a:alpha val="5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9880" y="-71640"/>
            <a:ext cx="817092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104036760" indent="0" algn="ctr">
              <a:buNone/>
              <a:tabLst>
                <a:tab algn="l" pos="0"/>
                <a:tab algn="l" pos="153684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I-enabled Learning, Engagement And Research (CLEAR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07040" y="4683240"/>
            <a:ext cx="19299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KC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ovement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67880" y="4683240"/>
            <a:ext cx="19299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penes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ovement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08280" y="1366920"/>
            <a:ext cx="5075280" cy="5173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422240" y="2916360"/>
            <a:ext cx="1960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Pasteur’s Quadrant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3720" y="3603600"/>
            <a:ext cx="2664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Numerous collaboratories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92560" y="4451400"/>
            <a:ext cx="166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Global Seminars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14560" y="4451400"/>
            <a:ext cx="107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Increasing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Next Step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Drive it up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Drive it down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But drive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7:49:00Z</dcterms:created>
  <dc:creator>Brian Schottlaender</dc:creator>
  <dc:description/>
  <dc:language>en-US</dc:language>
  <cp:lastModifiedBy>Dru Mogge</cp:lastModifiedBy>
  <dcterms:modified xsi:type="dcterms:W3CDTF">2004-10-18T18:18:39Z</dcterms:modified>
  <cp:revision>6</cp:revision>
  <dc:subject/>
  <dc:title>PowerPoint Presentation  -  E-Research and Supporting Cyberinfrastructure: Next Steps Within Our Institutions</dc:title>
</cp:coreProperties>
</file>