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B99-D796-4C65-BE92-F4306A34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708-21C5-4C82-8055-DE75141A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13D-9EDC-48F0-B21E-23BCABA3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D97-7D84-4973-BA9A-8252939F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71BB-E4FC-467C-B7D9-F299C593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4B20-9A31-4DDB-B128-F5601DC2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4791-9894-4528-B01B-6D4F7208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828B-4D2B-4B4D-A250-DDCE035A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8094-5E84-463C-A783-28CA34B1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3C2C-1B83-4F38-ADAE-6F4259CB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7DB5-12CF-48F0-8AB8-2E314363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741-9547-43B9-9469-65DC0711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FFF3-0A0F-4866-9687-028351A7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7327-AF86-42B0-B8BC-BDBDB2F8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62E4-F77C-49B4-B771-C906E3BD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68E4-A99B-4591-A3E9-7097F875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2DCA-53A1-4449-B069-795D8076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8E1-C219-48AC-AE6E-3CEC58F0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8CA-E711-4293-AF19-CDE6C7F5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407-2112-4A1A-92B6-F1294A02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6CF-DE9A-462A-9FB7-80B2C360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122-05BD-4056-B927-094028E7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649-7BCE-43C5-B431-C0DAE6FE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3A0-2B7E-4053-B583-956C36B4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C2E6-3DDB-44FA-8405-7E567E50426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F0BD-5200-483D-83EA-39C7025841E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Palatino Linotype"/>
              </a:rPr>
              <a:t>E-Research and Supporting Cyberinfrastructure: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Palatino Linotype"/>
              </a:rPr>
              <a:t>Next Steps Within Our Institu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Palatino Linotype"/>
              </a:rPr>
              <a:t>ARL/CNI For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Palatino Linotype"/>
              </a:rPr>
              <a:t>15 October 200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Palatino Linotype"/>
              </a:rPr>
              <a:t>Brian E. C. Schottlaender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Palatino Linotype"/>
              </a:rPr>
              <a:t>University Librarian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Palatino Linotype"/>
              </a:rPr>
              <a:t>University of California, San Diego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Palatino Linotype"/>
              </a:rPr>
              <a:t>Chang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Change in scholarship is big, deep, complex, long-term, technical, social, cultur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Change will fundamentally reconfigure core activities of the academ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Shift from acquiring to mana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Shift from generating/pushing to receiving/pu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Palatino Linotype"/>
              </a:rPr>
              <a:t>Collabor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THOMAS: Before we can fully collaborate externally, we need to learn to do so interna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ATKINS: must find better ways of collaborating on development of middleware and common-operated digital librar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COURANT: the value everywhere of cooperation instead of compet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Palatino Linotype"/>
              </a:rPr>
              <a:t>Synerg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Palatino Linotype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Palatino Linotype"/>
              </a:rPr>
              <a:t>Alignment of mutual self-interest” between libraries/museums/archives – users –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Palatino Linotype"/>
              </a:rPr>
              <a:t>computing commun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Palatino Linotype"/>
              </a:rPr>
              <a:t>Learning, Engagement, Research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Palatino Linotype"/>
              </a:rPr>
              <a:t>Issu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Barrier-Free Acc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Content integr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Content cur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Content persistence/archiv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Content feder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Domain experti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Cost/Fund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Expectations (high and low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ccecff"/>
                </a:solidFill>
                <a:latin typeface="Palatino Linotype"/>
              </a:rPr>
              <a:t>ARL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Palatino Linotype"/>
              </a:rPr>
              <a:t>Strategic Directions (2005–2009):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Palatino Linotype"/>
              </a:rPr>
              <a:t>Summary</a:t>
            </a:r>
            <a:br>
              <a:rPr sz="42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Palatino Linotype"/>
              </a:rPr>
              <a:t>Strategic Direction I: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Palatino Linotype"/>
              </a:rPr>
              <a:t>ARL will be a leader in the development of effective, extensible, sustainable, and economically viable systems of scholarly communicatio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Palatino Linotype"/>
              </a:rPr>
              <a:t>Strategic Direction II: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Palatino Linotype"/>
              </a:rPr>
              <a:t>ARL will influence information and other public policies, both nationally and internationally, that govern the way information is managed and made availabl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Palatino Linotype"/>
              </a:rPr>
              <a:t>Strategic Direction III: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Palatino Linotype"/>
              </a:rPr>
              <a:t>ARL will promote and facilitate new and expanding roles for ARL libraries in the transformations affecting research and undergraduate and graduate education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Palatino Linotype"/>
              </a:rPr>
              <a:t>Strategic Directions (2005–2009):</a:t>
            </a:r>
            <a:br>
              <a:rPr sz="4000"/>
            </a:br>
            <a:r>
              <a:rPr b="0" lang="en-US" sz="3800" spc="-1" strike="noStrike">
                <a:solidFill>
                  <a:srgbClr val="ccecff"/>
                </a:solidFill>
                <a:latin typeface="Palatino Linotype"/>
              </a:rPr>
              <a:t>Interdependent :: Transformative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0" t="0" r="0" b="31514"/>
          <a:stretch/>
        </p:blipFill>
        <p:spPr>
          <a:xfrm>
            <a:off x="2209680" y="1752480"/>
            <a:ext cx="51818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16000" y="1187280"/>
            <a:ext cx="6670800" cy="55278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solidFill>
            <a:srgbClr val="ffff00">
              <a:alpha val="50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9880" y="-71640"/>
            <a:ext cx="817092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104036760" indent="0" algn="ctr">
              <a:buNone/>
              <a:tabLst>
                <a:tab algn="l" pos="0"/>
                <a:tab algn="l" pos="153684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I-enabled Learning, Engagement And Research (CLEAR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07040" y="4683240"/>
            <a:ext cx="19299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KC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ovement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67880" y="4683240"/>
            <a:ext cx="192996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Openes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Movement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808280" y="1366920"/>
            <a:ext cx="5075280" cy="51735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422240" y="2916360"/>
            <a:ext cx="1960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"/>
              </a:rPr>
              <a:t>Pasteur’s Quadrant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3720" y="3603600"/>
            <a:ext cx="2664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"/>
              </a:rPr>
              <a:t>Numerous collaboratories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92560" y="4451400"/>
            <a:ext cx="166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"/>
              </a:rPr>
              <a:t>Global Seminars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14560" y="4451400"/>
            <a:ext cx="1072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91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"/>
              </a:rPr>
              <a:t>Increasing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Palatino Linotype"/>
              </a:rPr>
              <a:t>Next Step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Drive it up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Drive it down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Palatino Linotype"/>
              </a:rPr>
              <a:t>But drive i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7:49:00Z</dcterms:created>
  <dc:creator>Brian Schottlaender</dc:creator>
  <dc:description/>
  <dc:language>en-US</dc:language>
  <cp:lastModifiedBy>Dru Mogge</cp:lastModifiedBy>
  <dcterms:modified xsi:type="dcterms:W3CDTF">2004-10-18T18:18:39Z</dcterms:modified>
  <cp:revision>6</cp:revision>
  <dc:subject/>
  <dc:title>PowerPoint Presentation  -  E-Research and Supporting Cyberinfrastructure: Next Steps Within Our Institutions</dc:title>
</cp:coreProperties>
</file>