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gif" ContentType="image/gif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684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30C78-E136-48A4-A9B4-AEECBE44D03F}" type="datetime5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Jul 29, 20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ABC82-6926-4940-A942-704EA9D2A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 science has been around for five decades, but now deserves recognition, attention, and funding commensurate with the other two methodologies of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5880" y="4130640"/>
            <a:ext cx="758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1000" y="198108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5880" y="413064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61000" y="413064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440" y="198108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3000" y="198108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5880" y="413064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440" y="413064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3000" y="4130640"/>
            <a:ext cx="2441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369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61000" y="1981080"/>
            <a:ext cx="369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4960" y="628200"/>
            <a:ext cx="775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1000" y="1981080"/>
            <a:ext cx="369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5880" y="413064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369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1000" y="198108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61000" y="413064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1000" y="1981080"/>
            <a:ext cx="3699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5880" y="4130640"/>
            <a:ext cx="758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7840" y="76320"/>
            <a:ext cx="609480" cy="6705360"/>
          </a:xfrm>
          <a:prstGeom prst="rect">
            <a:avLst/>
          </a:prstGeom>
          <a:gradFill rotWithShape="0">
            <a:gsLst>
              <a:gs pos="0">
                <a:srgbClr val="011348"/>
              </a:gs>
              <a:gs pos="100000">
                <a:srgbClr val="0640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-1829880" y="2066400"/>
            <a:ext cx="459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National Science Fou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7840" y="6161040"/>
            <a:ext cx="62244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gif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gif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library responses to the NSF cyber-infrastructure pro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G. Messerschmit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, NSF Blue Ribbon Advisory Panel on Cyber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pe of science-specific acti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4173600">
            <a:off x="2541240" y="2519280"/>
            <a:ext cx="650880" cy="254160"/>
          </a:xfrm>
          <a:prstGeom prst="leftRightArrow">
            <a:avLst>
              <a:gd name="adj1" fmla="val 50000"/>
              <a:gd name="adj2" fmla="val 509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14680" y="1600200"/>
            <a:ext cx="228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o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r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rot="17426400">
            <a:off x="6675120" y="2503440"/>
            <a:ext cx="574920" cy="266760"/>
          </a:xfrm>
          <a:prstGeom prst="leftRightArrow">
            <a:avLst>
              <a:gd name="adj1" fmla="val 50000"/>
              <a:gd name="adj2" fmla="val 4290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96200" y="190512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733920"/>
            <a:ext cx="6324480" cy="60948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100000">
                <a:srgbClr val="005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3048120"/>
            <a:ext cx="6324480" cy="53316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42424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uct of science and engineering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ing and coord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F as instigator, leader, coordin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F: $1B additional per year estim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H, DARPA, NASA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 (e.g. e-Science in G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71600" y="245736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62520" y="2652840"/>
            <a:ext cx="1724040" cy="1482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76520" y="472428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47242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4695840"/>
            <a:ext cx="1905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477120" y="236232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400800" y="47242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47920" y="2457360"/>
            <a:ext cx="1819080" cy="1809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rgets of preser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62520" y="2652840"/>
            <a:ext cx="1724040" cy="1482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676520" y="4724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representing the physic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47242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469584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s, theories,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477120" y="236232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0080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comes,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ed and not need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arency to geography, borders institution, discip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e of distributed application development and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proximity to fac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plication of eff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wer of Bab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nto cyberinfrastructure (fundamental and appli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and standard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gregation, description, organization, access, pre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n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s well as 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al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ipulation and visualization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rporation into new distributed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al role of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16960" y="190512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3240" y="354024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80120" y="355140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446200">
            <a:off x="5698800" y="2819160"/>
            <a:ext cx="1257120" cy="380880"/>
          </a:xfrm>
          <a:prstGeom prst="rightArrow">
            <a:avLst>
              <a:gd name="adj1" fmla="val 50000"/>
              <a:gd name="adj2" fmla="val 82514"/>
            </a:avLst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8218800">
            <a:off x="2971080" y="2819520"/>
            <a:ext cx="1257480" cy="380880"/>
          </a:xfrm>
          <a:prstGeom prst="rightArrow">
            <a:avLst>
              <a:gd name="adj1" fmla="val 50000"/>
              <a:gd name="adj2" fmla="val 82538"/>
            </a:avLst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733920" y="3733920"/>
            <a:ext cx="2361960" cy="672840"/>
            <a:chOff x="3733920" y="3733920"/>
            <a:chExt cx="2361960" cy="672840"/>
          </a:xfrm>
        </p:grpSpPr>
        <p:sp>
          <p:nvSpPr>
            <p:cNvPr id="154" name=""/>
            <p:cNvSpPr/>
            <p:nvPr/>
          </p:nvSpPr>
          <p:spPr>
            <a:xfrm>
              <a:off x="3733920" y="3733920"/>
              <a:ext cx="2361960" cy="304560"/>
            </a:xfrm>
            <a:prstGeom prst="rightArrow">
              <a:avLst>
                <a:gd name="adj1" fmla="val 50000"/>
                <a:gd name="adj2" fmla="val 193883"/>
              </a:avLst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20120" y="3886200"/>
              <a:ext cx="146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mpi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752480" y="512136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roles need to be preserved for future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’s responsi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190512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5880" y="190512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e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4800" y="3540240"/>
            <a:ext cx="32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arti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960" y="3551400"/>
            <a:ext cx="264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 arti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446200">
            <a:off x="2436480" y="2819160"/>
            <a:ext cx="1257120" cy="380880"/>
          </a:xfrm>
          <a:prstGeom prst="rightArrow">
            <a:avLst>
              <a:gd name="adj1" fmla="val 50000"/>
              <a:gd name="adj2" fmla="val 82514"/>
            </a:avLst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446200">
            <a:off x="6055920" y="2819520"/>
            <a:ext cx="1257480" cy="380880"/>
          </a:xfrm>
          <a:prstGeom prst="rightArrow">
            <a:avLst>
              <a:gd name="adj1" fmla="val 50000"/>
              <a:gd name="adj2" fmla="val 82538"/>
            </a:avLst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28760" y="4665960"/>
            <a:ext cx="3285000" cy="1659960"/>
            <a:chOff x="4028760" y="4665960"/>
            <a:chExt cx="3285000" cy="1659960"/>
          </a:xfrm>
        </p:grpSpPr>
        <p:sp>
          <p:nvSpPr>
            <p:cNvPr id="165" name=""/>
            <p:cNvSpPr/>
            <p:nvPr/>
          </p:nvSpPr>
          <p:spPr>
            <a:xfrm rot="8218800">
              <a:off x="6095160" y="5043600"/>
              <a:ext cx="1257480" cy="380880"/>
            </a:xfrm>
            <a:prstGeom prst="rightArrow">
              <a:avLst>
                <a:gd name="adj1" fmla="val 50000"/>
                <a:gd name="adj2" fmla="val 82538"/>
              </a:avLst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446200">
              <a:off x="4000320" y="5043240"/>
              <a:ext cx="1257120" cy="380880"/>
            </a:xfrm>
            <a:prstGeom prst="rightArrow">
              <a:avLst>
                <a:gd name="adj1" fmla="val 50000"/>
                <a:gd name="adj2" fmla="val 82514"/>
              </a:avLst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55040" y="58053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old: “Software as information artifac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new: “Software as behavior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rporated into distributed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rvation (requires a preserved environment als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support requires domain expert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SF Blue Ribbon Advisory Panel on Cyber-infra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75880" y="2438280"/>
            <a:ext cx="37148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niel E. Atkins,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Michig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lvin Droeg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Oklaho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art Feldm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ctor Garcia-Mol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hael Kle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Pennsylvan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3000" y="2361960"/>
            <a:ext cx="371484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ul Mess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ornia Institute of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G. Messerschmit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-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remiah P. Ostri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garet H. Wr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3276720"/>
            <a:ext cx="32763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r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 researchers and their grants do not support aggregation, organization, access, preser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tful as a commercial publication enterpr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the role of the library extend to digital science (data and software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ew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ies, museums, or new institu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itutional framework for softwa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er integration with scientific research commun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, implementation, support, opera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ic and institutional fragmentatio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ne a conversation on your camp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a party to the national convers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e a compelling plan for fu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ber-infrastructure and digital science codifies a third leg of scientific investig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expertise and savvy is relevant and valu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ual and management challenges ab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ologies of science and engineering resear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66680" y="46134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243828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98360" y="4451400"/>
            <a:ext cx="239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or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657000">
            <a:off x="3276360" y="4952880"/>
            <a:ext cx="2057400" cy="304920"/>
          </a:xfrm>
          <a:prstGeom prst="leftRightArrow">
            <a:avLst>
              <a:gd name="adj1" fmla="val 50000"/>
              <a:gd name="adj2" fmla="val 134322"/>
            </a:avLst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8969000">
            <a:off x="2666880" y="3657240"/>
            <a:ext cx="2057400" cy="304920"/>
          </a:xfrm>
          <a:prstGeom prst="leftRightArrow">
            <a:avLst>
              <a:gd name="adj1" fmla="val 50000"/>
              <a:gd name="adj2" fmla="val 134322"/>
            </a:avLst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3641000">
            <a:off x="4930560" y="3446280"/>
            <a:ext cx="1486080" cy="304920"/>
          </a:xfrm>
          <a:prstGeom prst="leftRightArrow">
            <a:avLst>
              <a:gd name="adj1" fmla="val 50000"/>
              <a:gd name="adj2" fmla="val 97022"/>
            </a:avLst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541840" y="4191120"/>
            <a:ext cx="2438280" cy="2253600"/>
            <a:chOff x="5541840" y="4191120"/>
            <a:chExt cx="2438280" cy="2253600"/>
          </a:xfrm>
        </p:grpSpPr>
        <p:sp>
          <p:nvSpPr>
            <p:cNvPr id="64" name=""/>
            <p:cNvSpPr/>
            <p:nvPr/>
          </p:nvSpPr>
          <p:spPr>
            <a:xfrm>
              <a:off x="5541840" y="4191120"/>
              <a:ext cx="2438280" cy="1752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50280" y="5985000"/>
              <a:ext cx="205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gital sc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digital scien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5880" y="1981080"/>
            <a:ext cx="758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st collection and repositories of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instrumentation and sen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ng, computing, visual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software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collab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scholarly pub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ber-infrastructure: physical 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3657600"/>
            <a:ext cx="6324480" cy="114300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working/processing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4173600">
            <a:off x="2552400" y="300996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14680" y="1600200"/>
            <a:ext cx="323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wor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ors, instr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rot="17426400">
            <a:off x="6171120" y="2857680"/>
            <a:ext cx="1295280" cy="304920"/>
          </a:xfrm>
          <a:prstGeom prst="leftRightArrow">
            <a:avLst>
              <a:gd name="adj1" fmla="val 50000"/>
              <a:gd name="adj2" fmla="val 845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96200" y="194616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502920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502920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502920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02920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502920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502920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5486400"/>
            <a:ext cx="533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federated data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ber-infrastructure: logical 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4495680"/>
            <a:ext cx="6324480" cy="6098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21c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 resource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4173600">
            <a:off x="2541240" y="2519280"/>
            <a:ext cx="650880" cy="254160"/>
          </a:xfrm>
          <a:prstGeom prst="leftRightArrow">
            <a:avLst>
              <a:gd name="adj1" fmla="val 50000"/>
              <a:gd name="adj2" fmla="val 509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14680" y="1600200"/>
            <a:ext cx="228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o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r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rot="17426400">
            <a:off x="6675120" y="2503440"/>
            <a:ext cx="574920" cy="266760"/>
          </a:xfrm>
          <a:prstGeom prst="leftRightArrow">
            <a:avLst>
              <a:gd name="adj1" fmla="val 50000"/>
              <a:gd name="adj2" fmla="val 4290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96200" y="190512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733920"/>
            <a:ext cx="6324480" cy="60948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100000">
                <a:srgbClr val="005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048120"/>
            <a:ext cx="6324480" cy="53316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42424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uct of science and engineering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5791320"/>
            <a:ext cx="533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ed data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pe of cyber-infra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4495680"/>
            <a:ext cx="6324480" cy="6098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21c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 resource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5791320"/>
            <a:ext cx="533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ed data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7590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k of funding: people for development, user support,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4960" y="62820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pe of information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4495680"/>
            <a:ext cx="6324480" cy="6098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21c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d  resource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3733920"/>
            <a:ext cx="6324480" cy="60948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100000">
                <a:srgbClr val="005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5334120"/>
            <a:ext cx="838080" cy="1143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0012"/>
              </a:gs>
              <a:gs pos="100000">
                <a:srgbClr val="fc01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5791320"/>
            <a:ext cx="533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ed data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9T20:39:46Z</dcterms:created>
  <dc:creator>David G. Messerschmitt</dc:creator>
  <dc:description/>
  <dc:language>en-US</dc:language>
  <cp:lastModifiedBy>Dru Mogge</cp:lastModifiedBy>
  <cp:lastPrinted>1998-08-25T18:33:27Z</cp:lastPrinted>
  <dcterms:modified xsi:type="dcterms:W3CDTF">2003-05-23T00:32:00Z</dcterms:modified>
  <cp:revision>208</cp:revision>
  <dc:subject/>
  <dc:title>PowerPoint Presentation  -  Introduction</dc:title>
</cp:coreProperties>
</file>