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AE2-04DB-4D54-8ABA-5551294B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401-3ED1-4C72-A7A0-ED06FE42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3A7-5EE5-45F5-8CCC-CD6791BB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0E3-B0E5-4B44-85B1-B3CF935E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F1D-3843-47B1-9943-99710C3B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E13-89D1-4217-A536-8A299055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AEB-C1AF-471D-AA01-24877990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3D1-BDFF-4168-8AB3-B0F15E1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2CB-F94F-4350-BF2B-3BB9674B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5CD-C16F-48DE-9431-2EC4B769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8DD-FFD4-4554-82F1-A2959938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556-1E8C-4210-B8DB-FAAEFF7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1839-5226-4C44-B412-432954054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051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ARL Membership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October 13,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464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Deanna Mar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Library of Con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Make more collections available on the we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Resource guides to new collec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Standards develop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Archival repository for publishers’ cont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Symposia on “The Screen as Interfac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Office of Strategic Initiatives Copyright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Library of Congress User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Sylfaen"/>
              </a:rPr>
              <a:t>What el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Integration of analog and digital collections and services is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Library services will be organized from the users’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Partnerships are essential to our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Collections are our leg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388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Principles underlying the change in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alignment of Library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743280"/>
            <a:ext cx="1524240" cy="2741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Acquisitions &amp; Bibliographic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Beacher Wig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733920"/>
            <a:ext cx="1447920" cy="2741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Collections &amp;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Carolyn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733920"/>
            <a:ext cx="1600200" cy="2741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P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Diane van der Rey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Acting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733920"/>
            <a:ext cx="1447920" cy="2741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Partnerships &amp; Outreach 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Deanna Marc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Acting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3733920"/>
            <a:ext cx="1524240" cy="2741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Technology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Henry Ross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Acting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84880" y="4591080"/>
            <a:ext cx="119700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112392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09680" y="4594320"/>
            <a:ext cx="1143000" cy="134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62520" y="4495680"/>
            <a:ext cx="1028520" cy="134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33720" y="990720"/>
            <a:ext cx="1904760" cy="21938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Deanna Marc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Associate Libr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523960" y="1066680"/>
            <a:ext cx="113364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1480" y="1006560"/>
            <a:ext cx="1901880" cy="21938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Robert Dizard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Depu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Associate Libra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581800" y="1087560"/>
            <a:ext cx="1123920" cy="135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352680"/>
            <a:ext cx="685800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2209680"/>
            <a:ext cx="114300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209680"/>
            <a:ext cx="0" cy="11430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Library Service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rastructure to suppo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he library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Budget and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Development and Donor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Researc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uman Resource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153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Sylfaen"/>
              </a:rPr>
              <a:t>What staff will be needed for the 21</a:t>
            </a:r>
            <a:r>
              <a:rPr b="0" lang="en-US" sz="3600" spc="-1" strike="noStrike" baseline="30000">
                <a:solidFill>
                  <a:srgbClr val="333333"/>
                </a:solidFill>
                <a:latin typeface="Sylfaen"/>
              </a:rPr>
              <a:t>st</a:t>
            </a:r>
            <a:r>
              <a:rPr b="0" lang="en-US" sz="3600" spc="-1" strike="noStrike">
                <a:solidFill>
                  <a:srgbClr val="333333"/>
                </a:solidFill>
                <a:latin typeface="Sylfaen"/>
              </a:rPr>
              <a:t> century libr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Sylfaen"/>
              </a:rPr>
              <a:t>“</a:t>
            </a:r>
            <a:r>
              <a:rPr b="0" lang="en-US" sz="3600" spc="-1" strike="noStrike">
                <a:solidFill>
                  <a:srgbClr val="333333"/>
                </a:solidFill>
                <a:latin typeface="Sylfaen"/>
              </a:rPr>
              <a:t>Knowledge navigator”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3960" indent="-54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lfa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Great number of staff eligible for 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How do we capture their knowledge for the benefit of new sta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Combining digital and analog collections requires new skill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How do we train those who are successful in the analog world to be equally successful in the digital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Education/training librarians in other nation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Can we develop a program that helps our colleague institutions deal with similar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1581120"/>
            <a:ext cx="7848720" cy="3385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Routine habits are unthinking habits: "bad" habits are habits so severed from reason that they are opposed to the conclusions of conscious deliberation and decis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94840" y="4738680"/>
            <a:ext cx="70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John Dewey, 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Sylfaen"/>
              </a:rPr>
              <a:t>Democracy an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hanging our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8954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How can the Library of Congress assist the research libraries of Amer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More catalog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Redefine cataloging for the 21</a:t>
            </a:r>
            <a:r>
              <a:rPr b="1" lang="en-US" sz="3600" spc="-1" strike="noStrike" baseline="30000">
                <a:solidFill>
                  <a:srgbClr val="333333"/>
                </a:solidFill>
                <a:latin typeface="Sylfaen"/>
              </a:rPr>
              <a:t>st</a:t>
            </a: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 centu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Information on preservation techniqu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Dissemination of preservation resear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20:47:17Z</dcterms:created>
  <dc:creator>defuser</dc:creator>
  <dc:description/>
  <dc:language>en-US</dc:language>
  <cp:lastModifiedBy>Dru Mogge</cp:lastModifiedBy>
  <dcterms:modified xsi:type="dcterms:W3CDTF">2004-10-18T18:03:43Z</dcterms:modified>
  <cp:revision>18</cp:revision>
  <dc:subject/>
  <dc:title>PowerPoint Presentation  -  Library of Congress Update</dc:title>
</cp:coreProperties>
</file>