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58D-AFBE-4C7D-8C01-3D2588CB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535-7935-42B8-B727-8E70099F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E13-A80B-495D-BACC-12EEF0CF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55A-9356-4808-AD32-4C7DE2FA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D51-F68B-4C03-A249-FE76E4CF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C8A-E0D8-433B-84C6-C79C4142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DBB-31D8-4513-9AC7-19C466F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207-6A7E-4740-8770-A8489D7C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338-CF8A-4B28-B6D4-C621BAB7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279-C9A5-4911-A9D3-0AF88DE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00E-DF6A-4F45-8452-2953E31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083-942A-421F-8C95-ECF750D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2E7-41DC-46C6-8041-6B7BA038B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0512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ARL Membership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October 13, 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464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Deanna Mar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Library of Con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Make more collections available on the we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esource guides to new collec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Standards develop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Archival repository for publishers’ cont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Symposia on “The Screen as Interfac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Office of Strategic Initiatives Copyright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Library of Congress User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Sylfaen"/>
              </a:rPr>
              <a:t>What el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Integration of analog and digital collections and services is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Library services will be organized from the users’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Partnerships are essential to our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Collections are our leg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38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Principles underlying the change in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alignment of Library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743280"/>
            <a:ext cx="1524240" cy="2741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Acquisitions &amp; Bibliographic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Beacher Wig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733920"/>
            <a:ext cx="144792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Collections &amp;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Carolyn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733920"/>
            <a:ext cx="160020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P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iane van der Rey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3733920"/>
            <a:ext cx="144792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Partnerships &amp; Outreach 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Deanna Marc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3733920"/>
            <a:ext cx="1524240" cy="2741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Technology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Henry Ross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Acting 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84880" y="4591080"/>
            <a:ext cx="11970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4572000"/>
            <a:ext cx="1123920" cy="13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09680" y="4594320"/>
            <a:ext cx="1143000" cy="134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62520" y="4495680"/>
            <a:ext cx="1028520" cy="1349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990720"/>
            <a:ext cx="1904760" cy="21938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Deanna Marc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Associate Libr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523960" y="1066680"/>
            <a:ext cx="11336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1480" y="1006560"/>
            <a:ext cx="1901880" cy="21938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Robert Dizard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Depu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Associate Libra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581800" y="1087560"/>
            <a:ext cx="1123920" cy="135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352680"/>
            <a:ext cx="685800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352680"/>
            <a:ext cx="0" cy="38124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2209680"/>
            <a:ext cx="114300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209680"/>
            <a:ext cx="0" cy="114300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Library Service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rastructure to sup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the library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Budget and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Development and Donor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lfaen"/>
              </a:rPr>
              <a:t>Researc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uman Resource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153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What staff will be needed for the 21</a:t>
            </a:r>
            <a:r>
              <a:rPr b="0" lang="en-US" sz="3600" spc="-1" strike="noStrike" baseline="30000">
                <a:solidFill>
                  <a:srgbClr val="333333"/>
                </a:solidFill>
                <a:latin typeface="Sylfaen"/>
              </a:rPr>
              <a:t>st</a:t>
            </a: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 century libr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“</a:t>
            </a:r>
            <a:r>
              <a:rPr b="0" lang="en-US" sz="3600" spc="-1" strike="noStrike">
                <a:solidFill>
                  <a:srgbClr val="333333"/>
                </a:solidFill>
                <a:latin typeface="Sylfaen"/>
              </a:rPr>
              <a:t>Knowledge navigator”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3960" indent="-543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lfae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Great number of staff eligible for  ret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ow do we capture their knowledge for the benefit of new sta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Combining digital and analog collections requires new skill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How do we train those who are successful in the analog world to be equally successful in the digital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3)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lfaen"/>
              </a:rPr>
              <a:t>Education/training librarians in other national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43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Can we develop a program that helps our colleague institutions deal with similar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9480" y="1581120"/>
            <a:ext cx="7848720" cy="33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outine habits are unthinking habits: "bad" habits are habits so severed from reason that they are opposed to the conclusions of conscious deliberation and decis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94840" y="4738680"/>
            <a:ext cx="70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lfaen"/>
              </a:rPr>
              <a:t>John Dewey, </a:t>
            </a:r>
            <a:r>
              <a:rPr b="1" lang="en-US" sz="2800" spc="-1" strike="noStrike" u="sng">
                <a:solidFill>
                  <a:srgbClr val="333333"/>
                </a:solidFill>
                <a:uFillTx/>
                <a:latin typeface="Sylfaen"/>
              </a:rPr>
              <a:t>Democracy an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25560" dir="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nging our ha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8954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How can the Library of Congress assist the research libraries of Amer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More catalog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Redefine cataloging for the 21</a:t>
            </a:r>
            <a:r>
              <a:rPr b="1" lang="en-US" sz="3600" spc="-1" strike="noStrike" baseline="30000">
                <a:solidFill>
                  <a:srgbClr val="333333"/>
                </a:solidFill>
                <a:latin typeface="Sylfaen"/>
              </a:rPr>
              <a:t>st</a:t>
            </a: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 centu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Information on preservation techniqu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3333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Sylfaen"/>
              </a:rPr>
              <a:t>Dissemination of preservation resear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20:47:17Z</dcterms:created>
  <dc:creator>defuser</dc:creator>
  <dc:description/>
  <dc:language>en-US</dc:language>
  <cp:lastModifiedBy>Dru Mogge</cp:lastModifiedBy>
  <dcterms:modified xsi:type="dcterms:W3CDTF">2004-10-18T18:03:43Z</dcterms:modified>
  <cp:revision>18</cp:revision>
  <dc:subject/>
  <dc:title>PowerPoint Presentation  -  Library of Congress Update</dc:title>
</cp:coreProperties>
</file>