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7560-CD26-492B-AC0E-7574295CB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here to report on the work of the Strategic Plan Implementation Team.  But, before I do so, I’d like to share a few observations about on-going change in ARL.   I’ve seen a lot in my 15+ years of participation as a member-director.  As a new director, I responded to the call for interest in serving on committees and was expeditiously assigned to my third choice, the Bibliographic Control Committee.  In the first committee meeting, a senior member volunteered to do an instruction session on MARC tags for those of us who were less expert than he.  He never got the chance because, in the ARL-wide strategic planning, our group morphed into the Access Committee – bibliographic access plus physical and electronic access.  After two terms on that committee and assignments to some others, I returned to the access topic as chair of the group that resulted in the merger of the Access and Research Resources committees into a single body to address both collections and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elected to the Board and spent six years on that body, serving on the executive committee and as president.  In my years on the Board, we made numerous course-corrections. And, in response to member concern about proliferating activities, we surveyed the membership to determine their levels of to help us understand the choices.  Unfortunately, the response from the membership did not provide clear direction – every program had significant support.  Having made this great effort and yet failed to more sharply focus the organization, I feel strong commitment to our succeeding this time.  So hope that the work of our implementation team will contribute to the Association’s succes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review the available financial strategies.  These strategies were articulated by an earlier ARL Board and remain viable.  One available strategy is to use dues – this is the primary strategy for funding ARL's core operations.  A second possible strategy is cost recovery - funds from the sale of products and services, as a supplement to dues.  A third available strategy is to acquire restricted funds - grants or voluntary fees from subsets of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final possible strategy is to form parallel organizations, which often attract membership and funding from beyond ARL membershi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represents the Implementation Team’s recommendations on how ARL could be reorganized via committees and task forces where members have opportunities to be engaged.  The large circle is the Membership, with the Board at its Center.  On the right, represented by yellow circles, are the standing committees which represent core activities of the Board and enabling capabilities such as statistics &amp; measurement.  On the left, represented by the purple circles, are examples of self-funded initiatives, representing some of the existing efforts.  For example, the Initiative to </a:t>
            </a:r>
            <a:r>
              <a:rPr b="0" i="1" lang="en-US" sz="1200" spc="-1" strike="noStrike">
                <a:solidFill>
                  <a:srgbClr val="000000"/>
                </a:solidFill>
                <a:latin typeface="Arial"/>
              </a:rPr>
              <a:t>Recruit Diverse Workforce</a:t>
            </a:r>
            <a:r>
              <a:rPr b="0" lang="en-US" sz="1200" spc="-1" strike="noStrike">
                <a:solidFill>
                  <a:srgbClr val="000000"/>
                </a:solidFill>
                <a:latin typeface="Arial"/>
              </a:rPr>
              <a:t> is not the diversity program but the activity that is funded by voluntary contributions by subset of our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ellipses are the heart of our recommendations, the three steering committees, representing three programs that map to ARL strategic directions.  And the group below – of various shapes – represent possible subgroups and task forces that might be deemed necessary.   These steering committees and their possible subgroups and task forces are the point for intense member engagemen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elaborate on what we recommend for the composition of steering committees and their relationship to ARL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recommended that steering committee chairs serve as ex-officio voting members of the ARL Board (this needs to be discussed by the membership at this May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eering committees should be composed of 5-7 members serving three-year terms, with initially staggered appointments to accommodate continuity on the committ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mmended that the Executive Committee of the Board appoint the steering committee chairs in February 2005; and the committees begin work in preparation for the this Membership Meeting.  And they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called for volunteers for the committees and the Executive Committee appointed steering committee members.  Th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ring committees were to include people new to ARL in last 3 years, a representative from Task Force on Strategic Planning, some representatives of precursor standing committees.  We recommended that the Board appoint people with the interest and ability to shape an agenda and advance it through the new ARL governance structur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icipation of the discussions at this meeting, the newly formed Steering Committees were asked to propose a definition of “the scope of the strategic direction” for which they have responsibility, “being attentive that Guiding Principles in the Strategic Plan are appropriately reflected in the scop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on the findings of the Implementation Team, the Steering committees were to consider what existing ARL activities that will likely fall under the new steering committee scope, including, as appropriate, any that may need to be reshap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to suggest how task forces or other subgroups might pursue these activities, (I think most demurred on this as being premature).  And they were 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and engage the membership in discussion of their findings at this meeting – as they are about to 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t, we concluded our work and went out of business, except for this report to you.</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members of the team.  There was representation from the Board, in the persons of Brian and Sherrie.  There were old hands, like myself, and directors newer to ARL.  There was type-of-library and geographic distribution.  And we benefited from the participation of ARL staff in the persons of Jaia and Dua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harge was to identify the processes necessary to realize the new Strategic Plan.  We were to propose an expeditious timeline for that realization and we were to surface unresolved issues for the Board to add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met several times in the winter via conference call, in-person, and by email.  We had a full discussion of the issues, from all points of view and through multiple iterations.  And there were a broad range of opinions among members of the team.  Some would have been content to have no change.  Some favored some but not all changes.  Some desired major cha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deliberations were guided by these important documents - the recently-produced Strategic Plan and the report of the Task Force on Governance.  The Financial Strategies document was extremely useful task force.  And, we referred often to the ARL Guiding Principles and to the October membership discuss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me to several broa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und that the three current programs that ranked highest in the membership survey map well to the strategic directions identified in the plan.  These programs are scholarly communication, information policies, and collections &amp; ac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observed that there are enabling capabilities that support all of the strategic directions.  These include the measurement and assessment program along with governance, membership meetings, communications, and administrative suppo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etermined that further membership input is needed on the remaining programs - preservation, diversity, organizational development, and professional development and training (including distance learning).  What elements, if any, of these would make direct contributions to the strategic directions?   How they would do s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our ten recommend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L dues should be focused on three strategic directions and on the enabling capabilities.  Reminder – the strategic directions are scholarly communication, information policies, and the transformations of teaching and researc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ubstantial portion of the dues should be systematically reallocated from the lower-ranked activities to the strategic directions and their enabling capabilities.  Lower-ranked programs included preservation, professional development and training (including distance learning), diversity, and organizational develop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reallocated funds might be budgeted, for example, to increase capacity for policy analysis or to enhance communication capabilities. They, or some portion of them, might be used to develop ARL’s ability to respond agilely to emerging issues and circumsta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reallocation of dues should be carried out systematically and expeditiously using 2005 as a transition ye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urrent obligations from federal grants or other contracts for lower-ranked activities should be fulfill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e recommended that the Board establish a steering committee for each of the three strategic directions.  Initially each steering committee was to define the scope of its strategic direction.  Those draft scopes were to be made available to the membership for discussion at this meet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his meeting, Membership should have an opportunity to provide input into defining the scope of the three strategic directions – today’s series of discus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hen we talked about the role of current committees.  We recommended that, after seeing the draft scopes, the current program committees should to respond to them and to recommend adjustments to them.  That will happen this afternoon.  Per our recommendation, I and members of the Board met via conference call with current committee chairs to work out the framework for this afternoon’s discussions.  This afternoon committees will consider primarily their committee’s program activities not included in the scope of the strategic directions.  They will assess ongoing member interest in them, and articulate and if - and how - they could be accomplished without ARL dues support. They consider whether a given activity is one is most effectively dealt with by ARL, if there are aspects that are uniquely related to research libraries. If not, then the activity should be considered for elimination or transfer to an affiliated organ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Program committees may assume that the financial strategies currently used by ARL should continue to be used, but in different amounts and proportions.  Current dues revenue will be dedicated to advancing the three strategic directions and their enabling capabilities.  Cost recovery, restricted revenue, voluntary member contributions, and even targeted dues increases could be used to fund other projects, or services considered important by membershi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finally, we recommended that discussions with affiliated organizations about potential cooperative efforts and/or relocation of appropriate program activities should begin as and when appropri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54DC7-CAC8-4769-8497-CA17F1CE6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828440"/>
            <a:ext cx="81532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073040"/>
            <a:ext cx="81532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DE74B-9977-4B66-A4B3-74186B736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86396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0730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863960" y="40730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650A9-6480-475D-8137-AEB5492CB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8284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442680" y="18284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99200" y="18284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0730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442680" y="40730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99200" y="4073040"/>
            <a:ext cx="262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A1510-76CF-49CF-8706-0E5FFCA5D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828440"/>
            <a:ext cx="815328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6A411-FAF8-4B39-8DC2-3D515B51E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41A91-6885-4331-B497-1352691B5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828440"/>
            <a:ext cx="39787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863960" y="1828440"/>
            <a:ext cx="39787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A275B-A2C8-45E2-B983-A59F0B617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033E9-9D8E-4CFE-8249-C2323C243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89B71-6A21-4A75-802D-F3B4DDD31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863960" y="1828440"/>
            <a:ext cx="39787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0730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60EC3-820C-4310-A27D-246231C60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828440"/>
            <a:ext cx="39787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6396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863960" y="40730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E81E-E747-4DA8-9BBC-C3A73AB81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63960" y="1828440"/>
            <a:ext cx="39787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073040"/>
            <a:ext cx="81532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B20F0-09BC-431C-B615-4AC51416F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6EC9-6A39-4D8F-9BDD-10CB9A5934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64960" y="287280"/>
            <a:ext cx="1189080" cy="119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ARL Strategic Plan Implementation Team</a:t>
            </a:r>
            <a:endParaRPr b="0" lang="en-US" sz="47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L Membership Meeting</a:t>
            </a:r>
            <a:endParaRPr b="0" lang="en-US" sz="29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hiladelphia, PA</a:t>
            </a:r>
            <a:endParaRPr b="0" lang="en-US" sz="29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y 25, 2005</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274320"/>
            <a:ext cx="792468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ailable ARL Financial Strategies</a:t>
            </a:r>
            <a:endParaRPr b="0" lang="en-US" sz="4400" spc="-1" strike="noStrike">
              <a:solidFill>
                <a:srgbClr val="000000"/>
              </a:solidFill>
              <a:latin typeface="Arial"/>
            </a:endParaRPr>
          </a:p>
        </p:txBody>
      </p:sp>
      <p:sp>
        <p:nvSpPr>
          <p:cNvPr id="68" name="PlaceHolder 2"/>
          <p:cNvSpPr>
            <a:spLocks noGrp="1"/>
          </p:cNvSpPr>
          <p:nvPr>
            <p:ph/>
          </p:nvPr>
        </p:nvSpPr>
        <p:spPr>
          <a:xfrm>
            <a:off x="685800" y="2209320"/>
            <a:ext cx="815328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s funding for core oper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recovery for products &amp;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icted funds - grants &amp; voluntary f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organiz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rcRect l="0" t="5265" r="0" b="0"/>
          <a:stretch/>
        </p:blipFill>
        <p:spPr>
          <a:xfrm>
            <a:off x="0" y="0"/>
            <a:ext cx="9144000" cy="6858000"/>
          </a:xfrm>
          <a:prstGeom prst="rect">
            <a:avLst/>
          </a:prstGeom>
          <a:ln w="0">
            <a:noFill/>
          </a:ln>
        </p:spPr>
      </p:pic>
      <p:pic>
        <p:nvPicPr>
          <p:cNvPr id="71" name="" descr=""/>
          <p:cNvPicPr/>
          <p:nvPr/>
        </p:nvPicPr>
        <p:blipFill>
          <a:blip r:embed="rId2"/>
          <a:stretch/>
        </p:blipFill>
        <p:spPr>
          <a:xfrm>
            <a:off x="264960" y="287280"/>
            <a:ext cx="1189080" cy="1192320"/>
          </a:xfrm>
          <a:prstGeom prst="rect">
            <a:avLst/>
          </a:prstGeom>
          <a:ln w="0">
            <a:noFill/>
          </a:ln>
        </p:spPr>
      </p:pic>
      <p:sp>
        <p:nvSpPr>
          <p:cNvPr id="72" name=""/>
          <p:cNvSpPr/>
          <p:nvPr/>
        </p:nvSpPr>
        <p:spPr>
          <a:xfrm>
            <a:off x="1832040" y="6418440"/>
            <a:ext cx="563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ed Committee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ering Committees</a:t>
            </a:r>
            <a:endParaRPr b="0" lang="en-US" sz="4400" spc="-1" strike="noStrike">
              <a:solidFill>
                <a:srgbClr val="000000"/>
              </a:solidFill>
              <a:latin typeface="Arial"/>
            </a:endParaRPr>
          </a:p>
        </p:txBody>
      </p:sp>
      <p:sp>
        <p:nvSpPr>
          <p:cNvPr id="74" name="PlaceHolder 2"/>
          <p:cNvSpPr>
            <a:spLocks noGrp="1"/>
          </p:cNvSpPr>
          <p:nvPr>
            <p:ph/>
          </p:nvPr>
        </p:nvSpPr>
        <p:spPr>
          <a:xfrm>
            <a:off x="685440" y="1828440"/>
            <a:ext cx="762012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s serve on 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7 members serve three-year te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people new to ARL, a representative from Task Force on Strategic Planning, representatives of pre-cursor committe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harge to Steering Committees</a:t>
            </a:r>
            <a:endParaRPr b="0" lang="en-US" sz="4000" spc="-1" strike="noStrike">
              <a:solidFill>
                <a:srgbClr val="000000"/>
              </a:solidFill>
              <a:latin typeface="Arial"/>
            </a:endParaRPr>
          </a:p>
        </p:txBody>
      </p:sp>
      <p:sp>
        <p:nvSpPr>
          <p:cNvPr id="76" name="PlaceHolder 2"/>
          <p:cNvSpPr>
            <a:spLocks noGrp="1"/>
          </p:cNvSpPr>
          <p:nvPr>
            <p:ph/>
          </p:nvPr>
        </p:nvSpPr>
        <p:spPr>
          <a:xfrm>
            <a:off x="76212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scope of each strategic 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existing activities which might fall within sc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 task forces or sub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membership in M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680280" y="1828800"/>
            <a:ext cx="1956240" cy="358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900" spc="-1" strike="noStrike">
                <a:solidFill>
                  <a:srgbClr val="50006c"/>
                </a:solidFill>
                <a:latin typeface="Arial"/>
              </a:rPr>
              <a:t>?</a:t>
            </a:r>
            <a:endParaRPr b="0" lang="en-US" sz="2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Members</a:t>
            </a:r>
            <a:r>
              <a:rPr b="0" lang="en-US" sz="4400" spc="-1" strike="noStrike">
                <a:solidFill>
                  <a:srgbClr val="b3b3b3"/>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609480" y="18748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rley K. Baker, </a:t>
            </a:r>
            <a:r>
              <a:rPr b="0" lang="en-US" sz="2000" spc="-1" strike="noStrike">
                <a:solidFill>
                  <a:srgbClr val="000000"/>
                </a:solidFill>
                <a:latin typeface="Arial"/>
              </a:rPr>
              <a:t>Washington University in St. Louis, Chai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ara Dewey, </a:t>
            </a:r>
            <a:r>
              <a:rPr b="0" lang="en-US" sz="2000" spc="-1" strike="noStrike">
                <a:solidFill>
                  <a:srgbClr val="000000"/>
                </a:solidFill>
                <a:latin typeface="Arial"/>
              </a:rPr>
              <a:t>Tennesse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cy Gwinn, </a:t>
            </a:r>
            <a:r>
              <a:rPr b="0" lang="en-US" sz="2000" spc="-1" strike="noStrike">
                <a:solidFill>
                  <a:srgbClr val="000000"/>
                </a:solidFill>
                <a:latin typeface="Arial"/>
              </a:rPr>
              <a:t>Smithsonia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ff Haka, </a:t>
            </a:r>
            <a:r>
              <a:rPr b="0" lang="en-US" sz="2000" spc="-1" strike="noStrike">
                <a:solidFill>
                  <a:srgbClr val="000000"/>
                </a:solidFill>
                <a:latin typeface="Arial"/>
              </a:rPr>
              <a:t>Michigan Sta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rrie Schmidt, </a:t>
            </a:r>
            <a:r>
              <a:rPr b="0" lang="en-US" sz="2000" spc="-1" strike="noStrike">
                <a:solidFill>
                  <a:srgbClr val="000000"/>
                </a:solidFill>
                <a:latin typeface="Arial"/>
              </a:rPr>
              <a:t>Arizona Sta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an E. C. Schottlaender, </a:t>
            </a:r>
            <a:r>
              <a:rPr b="0" lang="en-US" sz="2000" spc="-1" strike="noStrike">
                <a:solidFill>
                  <a:srgbClr val="000000"/>
                </a:solidFill>
                <a:latin typeface="Arial"/>
              </a:rPr>
              <a:t>UC-San Dieg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ston Tabb, </a:t>
            </a:r>
            <a:r>
              <a:rPr b="0" lang="en-US" sz="2000" spc="-1" strike="noStrike">
                <a:solidFill>
                  <a:srgbClr val="000000"/>
                </a:solidFill>
                <a:latin typeface="Arial"/>
              </a:rPr>
              <a:t>Johns Hopki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ia Barrett, </a:t>
            </a:r>
            <a:r>
              <a:rPr b="0" lang="en-US" sz="2000" spc="-1" strike="noStrike">
                <a:solidFill>
                  <a:srgbClr val="000000"/>
                </a:solidFill>
                <a:latin typeface="Arial"/>
              </a:rPr>
              <a:t>AR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ane Webster, </a:t>
            </a:r>
            <a:r>
              <a:rPr b="0" lang="en-US" sz="2000" spc="-1" strike="noStrike">
                <a:solidFill>
                  <a:srgbClr val="000000"/>
                </a:solidFill>
                <a:latin typeface="Arial"/>
              </a:rPr>
              <a:t>AR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harge</a:t>
            </a:r>
            <a:endParaRPr b="0" lang="en-US" sz="4400" spc="-1" strike="noStrike">
              <a:solidFill>
                <a:srgbClr val="000000"/>
              </a:solidFill>
              <a:latin typeface="Arial"/>
            </a:endParaRPr>
          </a:p>
        </p:txBody>
      </p:sp>
      <p:sp>
        <p:nvSpPr>
          <p:cNvPr id="54"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rocesses to realize the p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an expeditious 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unresolved issues for the 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d by…</a:t>
            </a:r>
            <a:endParaRPr b="0" lang="en-US" sz="4400" spc="-1" strike="noStrike">
              <a:solidFill>
                <a:srgbClr val="000000"/>
              </a:solidFill>
              <a:latin typeface="Arial"/>
            </a:endParaRPr>
          </a:p>
        </p:txBody>
      </p:sp>
      <p:sp>
        <p:nvSpPr>
          <p:cNvPr id="56"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L Strategic Plan 2005-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on Governance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Strategies doc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L Guiding Princi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Membership discu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58"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hip survey’s highest ranked programs map to strategic dire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larly commun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polic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s &amp; a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60"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Membership survey’s highest ranked programs map to strategic dir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ing capabilities support strategic dire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amp; assess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ance, meetings, commun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62"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Membership survey’s highest ranked programs map to strategic directions</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Enabling capabilities support strategic dire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rther membership input necessary on remaining are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development &amp;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64"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dues on strategic area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ocate dues from lowest ranked areas to strategic direction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en strategic areas, support nimbleness, support emerging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ocate dues using 2005 as transition year</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urrent grant or contract obliga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s…</a:t>
            </a:r>
            <a:endParaRPr b="0" lang="en-US" sz="4400" spc="-1" strike="noStrike">
              <a:solidFill>
                <a:srgbClr val="000000"/>
              </a:solidFill>
              <a:latin typeface="Arial"/>
            </a:endParaRPr>
          </a:p>
        </p:txBody>
      </p:sp>
      <p:sp>
        <p:nvSpPr>
          <p:cNvPr id="66" name="PlaceHolder 2"/>
          <p:cNvSpPr>
            <a:spLocks noGrp="1"/>
          </p:cNvSpPr>
          <p:nvPr>
            <p:ph/>
          </p:nvPr>
        </p:nvSpPr>
        <p:spPr>
          <a:xfrm>
            <a:off x="685800" y="1828440"/>
            <a:ext cx="8153280" cy="42973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steering committee for each strategic direction</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membership in discussing scope for strategic direc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current committees in discussion of strategic directions and adjustment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current committees in consideration three financial strategi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discussions on potential efforts with affiliated organizatio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6:10:18Z</dcterms:created>
  <dc:creator>baker</dc:creator>
  <dc:description/>
  <dc:language>en-US</dc:language>
  <cp:lastModifiedBy>Dru Mogge</cp:lastModifiedBy>
  <dcterms:modified xsi:type="dcterms:W3CDTF">2005-06-06T15:02:33Z</dcterms:modified>
  <cp:revision>9</cp:revision>
  <dc:subject/>
  <dc:title>PowerPoint Presentation  -  ARL Strategic Plan Implementation Team Report</dc:title>
</cp:coreProperties>
</file>