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85DE0-2E40-42F3-BBF3-CE1AB05160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1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2120" y="3785760"/>
            <a:ext cx="761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FBA32-7CAF-43F1-A885-4B47F25A24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18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6320" y="1676520"/>
            <a:ext cx="3718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62120" y="3785760"/>
            <a:ext cx="3718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6320" y="3785760"/>
            <a:ext cx="3718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07063-C602-46F3-8CE0-907FDEB369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38640" y="16765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15160" y="16765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62120" y="37857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38640" y="37857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15160" y="37857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0C314-8FD2-4844-BD20-E918CF7614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350CA-A459-47FD-9017-49007A32BE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268FA-A1F3-407B-B3BE-057871F543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18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676520"/>
            <a:ext cx="3718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C8881-A1CF-4550-8FA6-FD59990216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5A26A-22DC-4615-AE2E-F5840374A3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828440" y="15192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2B91F-4520-4E10-B8B3-2E8AF25E5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18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6320" y="1676520"/>
            <a:ext cx="3718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2120" y="3785760"/>
            <a:ext cx="3718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B74E1-FF1A-4622-8AA1-9B54D0ACBA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18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6320" y="1676520"/>
            <a:ext cx="3718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6320" y="3785760"/>
            <a:ext cx="3718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292B1-E275-4E28-9362-2B154874A5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18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6320" y="1676520"/>
            <a:ext cx="3718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2120" y="3785760"/>
            <a:ext cx="761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92D7C-FDA7-447F-9B05-81F391BF93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10480" y="640044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600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C90E-3689-4ECB-869D-4A1D2A47C3A1}" type="slidenum">
              <a:rPr b="1" lang="en-US" sz="1400" spc="-1" strike="noStrike">
                <a:solidFill>
                  <a:srgbClr val="5600a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172200"/>
            <a:ext cx="9144000" cy="533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6019920"/>
            <a:ext cx="7619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52388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315200" y="62485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ww.arl.o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0" y="6705720"/>
            <a:ext cx="9144000" cy="0"/>
          </a:xfrm>
          <a:prstGeom prst="line">
            <a:avLst/>
          </a:prstGeom>
          <a:ln w="5076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8600" y="624852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sociation of Research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440" y="1752480"/>
            <a:ext cx="56386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L Task Force on New Ways of Measuring Collections</a:t>
            </a:r>
            <a:br>
              <a:rPr sz="3600"/>
            </a:b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ed b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nley Frankl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27, 20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L Business Meet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iladelphia, 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ry Preliminary  Recommendations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sess all measures currently 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outcomes (someh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contributions to local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print and electronic 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library is more than collections (e.g., services); ARL needs to tell the library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“collections”; what can we deliver just in case/just i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ry Preliminary  Recommendations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k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ped, except for local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ollections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ditures might be valid measure (for collections, servic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ry Preliminary  Recommendations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membership profile (useful to Membership Committee: “what is a research library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s (streng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to the national community (ILL, preservation, digit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ner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 con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local stewardship needs to be descri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ry Preliminary  Recommendations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shed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t different information to Chronicle of Higher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submit no information at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ittee Me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irley Baker, Washington-St. Lou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le Canelas, Flori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en Cook, Texas A&amp;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rol Pitts Diedrichs, Kentuck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ileen Hitchingham, Virginia Te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 Mekkawi, How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u Pitschmann, Alaba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ice Prochaska, Y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ennifer Younger, Notre D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inley Franklin, Chair, Connectic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Tr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Most Important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not expressing uniqueness of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vance to teaching, learning, research not adequately reflected (elusive, but need to answer this ques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ons go beyond printed 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library is more than collections – include its services; ARL is not telling the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Purpose of Measur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al significance of long dataset to show tr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ing for university’s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col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; benchma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Local Uses of Variables and Ind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6197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go to the administration for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statistics give perception that size matters (measures “tonnage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times as many directors found the index not helpful rather than helpful; index is a membership criteria, for others no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ncerned with how libraries serve their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How to Describe Collections in Relation to Us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ce of the issue (measuring from user perspective is important, everyone had something to say about the us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ship criteria index has been “corrupted” into a ranking of quality; should separate index from how we assess our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library is doing is very important (assessment of our suc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rrelation between index and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service quality scores should not be published, but rather used lo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dents suggested a wealth of ideas on how we could measure how well we serve our camp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How to Define Content and Distinguish Between That Which is Owned and Not Ow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ern about measuring content from user perspective vs. library perspec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l to measure what you can deliver just in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rs more concerned about when I can get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ligation to preser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dit for being a provider beyond local library (loaning, partnering, collaboration, local digitiz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sure 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ry Preliminary  Recomme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ship Committ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 purpose of use of membership index in current research library environment; ask Membership Committee to review/revise 5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 Committ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to address changing nature of collections more aggress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pilot grid of what measures we would like to 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2T20:58:56Z</dcterms:created>
  <dc:creator>Julia Blixrud</dc:creator>
  <dc:description/>
  <dc:language>en-US</dc:language>
  <cp:lastModifiedBy>Kaylyn Hipps</cp:lastModifiedBy>
  <cp:lastPrinted>2000-04-27T02:54:42Z</cp:lastPrinted>
  <dcterms:modified xsi:type="dcterms:W3CDTF">2005-06-14T15:08:06Z</dcterms:modified>
  <cp:revision>68</cp:revision>
  <dc:subject>Learning outcomes</dc:subject>
  <dc:title>PowerPoint Presentation  -  Where's the Evidence</dc:title>
</cp:coreProperties>
</file>