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E686-B5DE-4973-906F-CB101CCF2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785760"/>
            <a:ext cx="761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0A81-8D21-43B3-AB1D-703CB3DD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63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9F0F-91DE-4341-8161-76F1E39BB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8640" y="16765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5160" y="16765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7857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8640" y="37857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5160" y="37857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39DC-3B06-4574-90F1-793618A741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8005-4AF7-4D30-B0B4-38E02D564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9A5F-88F2-48C7-AEF6-E50E19F39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040A-D0AC-4F22-942F-B570CBC0C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EECD-1A65-4B48-8CD3-27FBADA05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8440" y="1519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7436-74EF-494D-843A-C33CDBB96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DD40-22BB-45F6-9FDE-401BFE329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6320" y="378576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5296-A599-440A-9720-8BAB55839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676520"/>
            <a:ext cx="3718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785760"/>
            <a:ext cx="761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94AC-7613-4D7C-B444-9BA5798BC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1048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600a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13E7-0CF1-470C-8760-C4038E49F308}" type="slidenum">
              <a:rPr b="1" lang="en-US" sz="1400" spc="-1" strike="noStrike">
                <a:solidFill>
                  <a:srgbClr val="5600a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72200"/>
            <a:ext cx="9144000" cy="533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601992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523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15200" y="62485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arl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6248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ociation of Research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752480"/>
            <a:ext cx="5638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L Task Force on New Ways of Measuring Collection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ley Frankl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27, 20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L Business Mee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adelphia,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sess all measures currently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outcomes (some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contributions to loc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print and electronic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library is more than collections (e.g., services); ARL needs to tell the library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“collections”; what can we deliver just in case/jus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ed, except for loc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llections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ditures might be valid measure (for collections, servic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membership profile (useful to Membership Committee: “what is a research libra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s (str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o the national community (ILL, preservation, digit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ocal stewardship needs to b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different information to Chronicle of Highe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ubmit no information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e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rley Baker, Washington-St. Lou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le Canelas, Flor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en Cook, Texas A&amp;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ol Pitts Diedrichs, Kentu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leen Hitchingham, Virginia 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 Mekkawi, Ho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u Pitschmann, Alab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Prochaska, Y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nnifer Younger, Notre D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nley Franklin, Chair, Connectic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ost Importa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not expressing uniqueness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to teaching, learning, research not adequately reflected (elusive, but need to answer this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s go beyond printed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library is more than collections – include its services; ARL is not telling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Purpose of Measu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gnificance of long dataset to show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ing for university’s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col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; 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ocal Uses of Variables and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go to the administration for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istics give perception that size matters (measures “tonnag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imes as many directors found the index not helpful rather than helpful; index is a membership criteria, for others no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ncerned with how libraries serve their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How to Describe Collections in Relation to Us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 of the issue (measuring from user perspective is important, everyone had something to say about the us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criteria index has been “corrupted” into a ranking of quality; should separate index from how we assess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ibrary is doing is very important (assessment of our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rrelation between index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service quality scores should not be published, but rather used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ents suggested a wealth of ideas on how we could measure how well we serve our camp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How to Define Content and Distinguish Between That Which is Owned and Not 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 about measuring content from user perspective vs. library persp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to measure what you can deliver just in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more concerned about when I can get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ligation to prese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 for being a provider beyond local library (loaning, partnering, collaboration, local digitiz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Preliminary 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ommitt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purpose of use of membership index in current research library environment; ask Membership Committee to review/revise 5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Committ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address changing nature of collections more aggres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ilot grid of what measures we would like to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20:58:56Z</dcterms:created>
  <dc:creator>Julia Blixrud</dc:creator>
  <dc:description/>
  <dc:language>en-US</dc:language>
  <cp:lastModifiedBy>Kaylyn Hipps</cp:lastModifiedBy>
  <cp:lastPrinted>2000-04-27T02:54:42Z</cp:lastPrinted>
  <dcterms:modified xsi:type="dcterms:W3CDTF">2005-06-14T15:08:06Z</dcterms:modified>
  <cp:revision>68</cp:revision>
  <dc:subject>Learning outcomes</dc:subject>
  <dc:title>PowerPoint Presentation  -  Where's the Evidence</dc:title>
</cp:coreProperties>
</file>