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D019-3F79-4717-9F37-E96BFA9FE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440" y="37857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7805-DFE8-4947-9435-79FC08C13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976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E748-3502-4C2C-B343-36E7BC74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460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0760" y="16765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44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460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0760" y="37857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F923-F89F-4673-AFAC-41F574E78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E5C-7B6D-43D9-8887-D42C86D17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56BA-39E4-4B8E-AF2B-AA5514509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F058-E0F4-4FD3-B769-8F9EF2DAF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245E-6279-4DE8-9106-7B8CAD563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C58A-3C8D-40A1-8EE0-FF724A95E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52BC-EF5E-4989-9A41-753A44CCE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9760" y="37857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B801-CE95-44D6-91D8-70143A2D6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9760" y="16765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440" y="37857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216C-7CA8-48B5-959B-34C31ED2C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Click to edit the title text format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765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harco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04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600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366-189F-47FF-85C7-19670245E475}" type="slidenum">
              <a:rPr b="1" lang="en-US" sz="1400" spc="-1" strike="noStrike">
                <a:solidFill>
                  <a:srgbClr val="5600a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19920"/>
            <a:ext cx="9144000" cy="228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828800" y="1371600"/>
            <a:ext cx="70866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943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"/>
              </a:rPr>
              <a:t>www.arl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23880" y="5943600"/>
            <a:ext cx="76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SOCIATIO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SEARC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ARL Forum on Portal Application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January 9, 2004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an Diego, C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Library 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Linkage: Cross-system searching, import, export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Most learning content tightly bound in L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activity relatively static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Interest in developing links between library systems and LMS to upload [library] content into L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harco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oes the library “push” information resources?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Linkage: Cross-system searching, import, expor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velop more interactive user scenarios for a “pull” environment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Import and export of objects such as reading lists and electronic profil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nteraction with E-learning Spac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Repositories and Stewardship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No standardization of interfaces to repositori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Need to place learning objects into larger context for archival and records management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objects may become more “transient” than institutional repositories (IR)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What needs to be done to make an IR an IMS learning object repository?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harco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Ability to discover IRs and determine what are appropriate for different purposes (use, storage)</a:t>
            </a:r>
            <a:endParaRPr b="0" lang="en-US" sz="20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Enterprise Context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ontent managed in silo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ed to define institution-wide infrastructure componen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uthorization, Base identity management, Authentication, Persistent identifier system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 DR Repositories Framework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Identified set of common functions that can be used across services and presented to users in a common interface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uthentication &amp; authorization, enrollment search, location and retrieval, IPR management, user preferences, and transactions and search gateways across servic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Learning objects also support contextualized sequencing, navigation, dynamic branding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1. Search servic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earch definitions for LOM metadat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fine search as a “service”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2. Model learning objects and information assets in a distributed environ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Develop workable implementations of LOM standar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dentifiers, locators, persistent locators, resolving servic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for persistent method to retrieve objects and need to maintain metadat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4. Metadat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Develop workable implementation of the LOM standard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5. Access Manage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to consider as enterprise, not library, infrastructure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6. Digital Rights Management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ot clear what action is neede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“</a:t>
            </a: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Work to be Done”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7. Portal Standard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ot clear how important to invest in this area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8. People Directorie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Need input from libraries, and related to enterprise-level work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ssues to Track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tandards - existing and needed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ntegration and interoperability between ILS and LM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ervice issues and convergen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Repositories - IR and L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General Management of Learning Objec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Overview of the Morning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IMS/CNI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OCLC E-learning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Overview of the University of Washington Library and E-learning Partnership 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Conclusion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ummarizes key areas of necessary interacti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Provides perspective on common servic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Architecture &amp; standards only means to an end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Facilitate collaboration between two communities to advance prototype deployment effort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Questions or Comments?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fford Lynch, CNI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lifford@cni.org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il McLean, IM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mclean@caval.edu.au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00ac"/>
                </a:solidFill>
                <a:latin typeface="Charcoal"/>
              </a:rPr>
              <a:t>The IMS/CNI White Paper</a:t>
            </a:r>
            <a:br>
              <a:rPr sz="3200"/>
            </a:br>
            <a:endParaRPr b="0" lang="en-US" sz="32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327636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Mary E. Jacks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Director of Collections &amp; Access Program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Association of Research Libraries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Washington, DC  USA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rcoal"/>
              </a:rPr>
              <a:t>mary@arl.org</a:t>
            </a:r>
            <a:endParaRPr b="0" lang="en-US" sz="24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Overview of Presentation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rovide highlights on the IMS/CNI white paper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Will forward your comments and questions to Cliff Lynch and Neil McLean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harcoal"/>
              </a:rPr>
              <a:t>Interoperability between Information and Learning Environments - Bridging the Gaps: </a:t>
            </a:r>
            <a:r>
              <a:rPr b="0" i="1" lang="en-US" sz="2800" spc="-1" strike="noStrike">
                <a:solidFill>
                  <a:srgbClr val="000000"/>
                </a:solidFill>
                <a:latin typeface="Charcoal"/>
              </a:rPr>
              <a:t>A Joint White Paper on Behalf of the IMS Global Learning Consortium and the Coalition for Networked Information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harcoal"/>
              </a:rPr>
              <a:t>Draft - version as of June 28, 2003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resenting summary with blessings of Cliff and Neil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Revised version is expected shortly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IMS/CNI White Paper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aper explores potential interactions between information environments and learning environment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dentifies work to be done in: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harco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standards, architecture, and interfaces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Outlin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The Information Environments: the Library Perspectiv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Library Interactions with the E-learning Spa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ac"/>
                </a:solidFill>
                <a:latin typeface="Charcoal"/>
              </a:rPr>
              <a:t>The Outline</a:t>
            </a:r>
            <a:endParaRPr b="0" lang="en-US" sz="4000" spc="-1" strike="noStrike">
              <a:solidFill>
                <a:srgbClr val="5600ac"/>
              </a:solidFill>
              <a:latin typeface="Charco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nstitutional Perspective</a:t>
            </a:r>
            <a:r>
              <a:rPr b="0" lang="en-US" sz="2800" spc="-1" strike="noStrike">
                <a:solidFill>
                  <a:srgbClr val="000000"/>
                </a:solidFill>
                <a:latin typeface="Charco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MS Digital Libraries Repositories Interoperability Problem Space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IMS Digital Repositories Framework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harco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New Conceptual Models</a:t>
            </a:r>
            <a:endParaRPr b="0" lang="en-US" sz="3200" spc="-1" strike="noStrike">
              <a:solidFill>
                <a:srgbClr val="000000"/>
              </a:solidFill>
              <a:latin typeface="Charco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20:58:56Z</dcterms:created>
  <dc:creator>Mary Jackson</dc:creator>
  <dc:description/>
  <dc:language>en-US</dc:language>
  <cp:lastModifiedBy>Date Submitted</cp:lastModifiedBy>
  <cp:lastPrinted>2003-10-09T16:46:00Z</cp:lastPrinted>
  <dcterms:modified xsi:type="dcterms:W3CDTF">2004-01-20T16:04:51Z</dcterms:modified>
  <cp:revision>84</cp:revision>
  <dc:subject/>
  <dc:title>PowerPoint Presentation  -  No Slide Title</dc:title>
</cp:coreProperties>
</file>