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70CC-AC85-4AB8-B414-186309F3B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8440" y="37857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C12B-33B8-462B-95C3-8849E61BE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440" y="37857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9760" y="37857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255A-005B-46FD-A051-F3004296B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4600" y="16765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0760" y="16765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8440" y="37857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4600" y="37857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0760" y="37857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1842-178F-4BC2-AE38-A178C0F17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8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08C5-E1D3-4F8D-9467-4F827E449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50E0-94DA-41C1-8001-0D7362F9C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FE62-B9EE-4B22-9242-D428BAF30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4F89-4EC4-42CB-A8A2-9FF112934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4161-9BC6-407C-9AE3-F5E13C8DC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8440" y="37857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489A-1BD6-42FE-849C-CA72CEC30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9760" y="37857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E7B9-9CE6-44C6-943B-1F68B93A8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440" y="37857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1C03-0D13-4571-A11C-C81A1876F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Click to edit the title text format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Charco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Charco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Charco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04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600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9DF7-9D48-4CF6-82E8-4169CF409EA5}" type="slidenum">
              <a:rPr b="1" lang="en-US" sz="1400" spc="-1" strike="noStrike">
                <a:solidFill>
                  <a:srgbClr val="5600a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19920"/>
            <a:ext cx="9144000" cy="228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828800" y="1371600"/>
            <a:ext cx="7086600" cy="0"/>
          </a:xfrm>
          <a:prstGeom prst="line">
            <a:avLst/>
          </a:prstGeom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943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</a:rPr>
              <a:t>www.arl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23880" y="5943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SOCI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SEARC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ARL Forum on Portal Application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January 9, 2004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an Diego, CA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Library Interaction with E-learning Spac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Linkage: Cross-system searching, import, export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Most learning content tightly bound in LM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Learning activity relatively static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Interest in developing links between library systems and LMS to upload [library] content into LM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harco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Does the library “push” information resources?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nteraction with e-learning spac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Linkage: Cross-system searching, import, expor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Develop more interactive user scenarios for a “pull” environment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Import and export of objects such as reading lists and electronic profile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nteraction with E-learning Spac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Repositories and Stewardship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No standardization of interfaces to repositorie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Need to place learning objects into larger context for archival and records management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Learning objects may become more “transient” than institutional repositories (IR)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What needs to be done to make an IR an IMS learning object repository?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rco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Ability to discover IRs and determine what are appropriate for different purposes (use, storage)</a:t>
            </a:r>
            <a:endParaRPr b="0" lang="en-US" sz="20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The Enterprise Context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Content managed in silo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Need to define institution-wide infrastructure component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Authorization, Base identity management, Authentication, Persistent identifier system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MS DR Repositories Framework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Identified set of common functions that can be used across services and presented to users in a common interface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Authentication &amp; authorization, enrollment search, location and retrieval, IPR management, user preferences, and transactions and search gateways across service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Learning objects also support contextualized sequencing, navigation, dynamic branding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“</a:t>
            </a: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Work to be Done”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1. Search service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Search definitions for LOM metadata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Define search as a “service”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2. Model learning objects and information assets in a distributed environmen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Develop workable implementations of LOM standard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“</a:t>
            </a: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Work to be Done”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dentifiers, locators, persistent locators, resolving service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eed for persistent method to retrieve objects and need to maintain metadata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4. Metadata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Develop workable implementation of the LOM standard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“</a:t>
            </a: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Work to be Done”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5. Access Managemen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eed to consider as enterprise, not library, infrastructure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6. Digital Rights Managemen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ot clear what action is needed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“</a:t>
            </a: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Work to be Done”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7. Portal Standard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ot clear how important to invest in this area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8. People Directorie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eed input from libraries, and related to enterprise-level work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ssues to Track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tandards - existing and needed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ntegration and interoperability between ILS and LM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ervice issues and convergence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Repositories - IR and LR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General Management of Learning Object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Overview of the Morning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Overview of the IMS/CNI White Paper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Overview of the OCLC E-learning White Paper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Overview of the University of Washington Library and E-learning Partnership 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Conclusion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Summarizes key areas of necessary interaction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Provides perspective on common service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Architecture &amp; standards only means to an end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Facilitate collaboration between two communities to advance prototype deployment effort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Questions or Comments?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Clifford Lynch, CNI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Clifford@cni.org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Neil McLean, IM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mclean@caval.edu.au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00ac"/>
                </a:solidFill>
                <a:latin typeface="Charcoal"/>
              </a:rPr>
              <a:t>The IMS/CNI White Paper</a:t>
            </a:r>
            <a:br>
              <a:rPr sz="3200"/>
            </a:br>
            <a:endParaRPr b="0" lang="en-US" sz="32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32763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Mary E. Jackson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Director of Collections &amp; Access Program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Association of Research Librarie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Washington, DC  USA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mary@arl.org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Overview of Presentation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Provide highlights on the IMS/CNI white paper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Will forward your comments and questions to Cliff Lynch and Neil McLean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MS/CNI White Paper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harcoal"/>
              </a:rPr>
              <a:t>Interoperability between Information and Learning Environments - Bridging the Gaps: </a:t>
            </a:r>
            <a:r>
              <a:rPr b="0" i="1" lang="en-US" sz="2800" spc="-1" strike="noStrike">
                <a:solidFill>
                  <a:srgbClr val="000000"/>
                </a:solidFill>
                <a:latin typeface="Charcoal"/>
              </a:rPr>
              <a:t>A Joint White Paper on Behalf of the IMS Global Learning Consortium and the Coalition for Networked Information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harcoal"/>
              </a:rPr>
              <a:t>Draft - version as of June 28, 2003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MS/CNI White Paper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Presenting summary with blessings of Cliff and Nei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Revised version is expected shortly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MS/CNI White Paper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Paper explores potential interactions between information environments and learning environment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dentifies work to be done in: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standards, architecture, and interface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The Outlin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The Information Environments: the Library Perspective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Library Interactions with the E-learning Space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The Outlin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nstitutional Perspective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MS Digital Libraries Repositories Interoperability Problem Space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MS Digital Repositories Framework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New Conceptual Model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20:58:56Z</dcterms:created>
  <dc:creator>Mary Jackson</dc:creator>
  <dc:description/>
  <dc:language>en-US</dc:language>
  <cp:lastModifiedBy>Date Submitted</cp:lastModifiedBy>
  <cp:lastPrinted>2003-10-09T16:46:00Z</cp:lastPrinted>
  <dcterms:modified xsi:type="dcterms:W3CDTF">2004-01-20T16:04:51Z</dcterms:modified>
  <cp:revision>84</cp:revision>
  <dc:subject/>
  <dc:title>PowerPoint Presentation  -  No Slide Title</dc:title>
</cp:coreProperties>
</file>